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D66-A4C0-4858-86BD-0779B14D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234-38FB-4727-A330-808DCFCF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862-A1A5-4AE6-B2DD-F1ACAA89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68E-A684-46F4-B02F-74201F08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D75-4CF9-4536-9899-0D02ACF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528-E3B7-4E56-A9F5-22D30B6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199-0128-4EFB-A6B7-B55E9DF3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708-4261-44FD-A213-B6DBD2F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913-9BF5-4B60-9179-CCD07951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21B-2B5F-44BE-AAD9-EA42FB1F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13F-1027-49EF-955C-D4CE450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590-A427-4D2C-B82A-A95DABA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38480" y="0"/>
            <a:ext cx="449604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63376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completely sinful and unworthy of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0520" y="533520"/>
            <a:ext cx="62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Luther’s fear of God was bas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 belief that he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sil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allegiance to the god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poverty, celibacy and obedi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revenge against everybody who didn’t want to be a Luthe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1960" y="533520"/>
            <a:ext cx="566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When Luther finally becam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k he made a sacred vow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poverty, celibacy and obed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1960" y="533520"/>
            <a:ext cx="566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When Luther finally becam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k he made a sacred vow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no more flying first class between home and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no more triple espressos on his way to work in the mo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no more super sizing his lunches at McDonald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ll of the above and more which meant a complete change in the way he lived his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18360" y="533520"/>
            <a:ext cx="64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For Luther, taking a vow of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no more flying first class between home and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no more triple espressos on his way to work in the mo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no more super sizing his lunches at McDonald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all of the above and more which meant a complete change in the way he lived his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18360" y="533520"/>
            <a:ext cx="64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For Luther, taking a vow of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3880" y="137160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lways the last one to come downstairs for breakf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always late for everything and had to wash his pastor’s truck because of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always late for movies and had to apologize to his 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never late for anything and always tried to do more than everybody else so God would let him into heaven when h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22680" y="53352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At the monastery, Luther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23880" y="137160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never late for anything and always tried to do more than everybody else so God would let him into heaven when h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2680" y="53352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At the monastery, Luther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47560" y="175212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stayed up all night long to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went without food and water for days to show his repent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physically abused his body to show God how sorry he was for his 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ll of the above - and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2320" y="533520"/>
            <a:ext cx="568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While at the monastery,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equent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47560" y="175212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stayed up all night long to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went without food and water for days to show his repent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physically abused his body to show God how sorry he was for his 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all of the above - and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22320" y="533520"/>
            <a:ext cx="568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While at the monastery,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equent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76160" y="22860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the ethics of biomedical 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basket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the 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lawn mower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533520"/>
            <a:ext cx="65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Luther was assigned to teach a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iversity of Wittenberg where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ught classe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ise your hand when you think you know an answ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inners will receive a $500.00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ertificate to Marshall Field’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ee Intern Linda for detai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228600"/>
            <a:ext cx="78487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676160" y="22860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the 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533520"/>
            <a:ext cx="65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Luther was assigned to teach a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iversity of Wittenberg where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ught classe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Habakkuk 2:4 “The righteous shall live by fait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Genesis 1:23 “And there was evening and there was morning, the fifth da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Judges 7:20 “A sword for the Lord and for Gideon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Hosea 8:1 “Set the trumpet to your lips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533520"/>
            <a:ext cx="68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The Bible verse that changed Luther’s life forever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Habakkuk 2:4 “The righteous shall live by fait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28800" y="533520"/>
            <a:ext cx="68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The Bible verse that changed Luther’s life forever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8080" y="228600"/>
            <a:ext cx="76201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 are 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fficia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 Scholar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old enough to know better but young enough to do it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past the age of no ret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22 year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too old to become a quarterback in the NF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9800" y="533520"/>
            <a:ext cx="656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If Luther was born in 1483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tered the monastery in 1505, he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22 year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19800" y="533520"/>
            <a:ext cx="656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If Luther was born in 1483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tered the monastery in 1505, he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his father’s uncle from Ber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his mother’s second cousin twice removed on her father’s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Vince Lombar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St. Augus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1240" y="533520"/>
            <a:ext cx="57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The monastery Luther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s named af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St. Augus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1240" y="533520"/>
            <a:ext cx="57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The monastery Luther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s named af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he heard there were some cute nuns there and he wanted to mee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it was where everybody who flunked out of law school w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he wanted to learn how to be a better si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he knew he was sinful and was afraid of going to hell when h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1240" y="533520"/>
            <a:ext cx="57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The real reason Luther ente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nastery was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he knew he was sinful and was afraid of going to hell when h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1240" y="533520"/>
            <a:ext cx="57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The real reason Luther ente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nastery was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not good enough to make the varsity basketball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too good looking to remain in the monastery for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completely sinful and unworthy of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not as fast as some of the other boys in his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0520" y="533520"/>
            <a:ext cx="62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Luther’s fear of God was bas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 belief that he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04:57:31Z</dcterms:created>
  <dc:creator>Jeffrey T. Funk</dc:creator>
  <dc:description/>
  <dc:language>en-US</dc:language>
  <cp:lastModifiedBy>Wayne C. Deloach</cp:lastModifiedBy>
  <cp:lastPrinted>2004-02-07T23:00:07Z</cp:lastPrinted>
  <dcterms:modified xsi:type="dcterms:W3CDTF">2006-04-13T19:46:27Z</dcterms:modified>
  <cp:revision>245</cp:revision>
  <dc:subject/>
  <dc:title>No Slide Title</dc:title>
</cp:coreProperties>
</file>